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7E1-0AD1-498E-AA6F-152ADC0C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720-9264-4C62-B612-AD9A2B53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A551C-D628-4292-9116-F2C024C5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AD6B1-73F9-4154-8750-024CCBDC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352C6-4AE4-43DD-8494-0E5CEEC0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F29634-10AF-4CEC-8438-409BE27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F6EFA-939E-48E0-A2C3-E9E1BB9A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324DF-A0D5-45CF-870F-C8F49E35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A32F5-0831-4E2E-B84B-0F1199F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3AB42-9C85-4462-AE34-67182800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B6541-57C0-460A-8929-1B2DFDEE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7CB4B-7DBE-419B-8195-73EF59F2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C94-7134-4C36-91A0-81CD83BE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43FF9-A0EC-4F59-BAF8-16D9C5E4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890CD-2264-41D8-BBA9-9AD3F729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01272-DA8C-4C30-9668-7F4646A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DBD4C-FD34-4138-8279-6AA45EE4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38846-B713-43C4-8A70-DA0CC331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DAA58-2A11-4061-951D-B3213A9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31A5D-1D86-4913-BDEE-386318B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FDA1F-8159-4AD6-9247-723A398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EA62F-B0EC-4FA6-9557-30EECCA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A682D-5DB9-49D4-AC01-FC59CDF8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53F-03B3-4EB3-B814-49A283BD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E678B-7646-482C-8353-FD0BBE08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FBD85-56D6-43DA-9AD8-3BE3CBDC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4B6DF-9AEC-4E6A-96A7-7B252E1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FAE68-B253-417E-B998-1C1DD7B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910F3-9618-4F8D-893D-7FC9CE3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E2760-D1EE-4FB0-9749-FE937FF6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8755-061C-4614-804B-6738B8F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958C-2BCE-4FB7-9FB7-222AD22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6F3C-8D7B-4AE4-9627-F38D568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B4F7-2534-4C67-B776-256EC85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3095-5918-44D2-84F2-8B6142E9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D4332-D83A-4BD8-AB51-A509C25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2AB77-F074-4687-A499-EDFF19E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94CE-0DFE-4913-89E0-346FB593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B69DA-D510-4A44-9E20-62CE02CB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352CC-094F-4F38-8C0B-F50B404A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94FF8-22DA-442E-A9A8-E481C95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3BEE9-CD8A-4985-845B-9C14410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0558C-41BE-45BF-B3E1-CE4502C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D33AE-88EF-41DD-B133-AF1F06F2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011B3-1625-4911-BF51-A9CA0C4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10C9-C2D4-42E2-B81B-1A7A951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1F85A-238A-4F78-A1B7-57BD960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D6F61-2FF0-4E1C-AB33-684498D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29A37-4FD2-4AC9-A7CF-D5D8898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26B3C-A67B-47DF-A362-22ADC12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B6C17-A1F5-4ED1-B25F-BA0FFA54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3C0-F086-4DB9-9B06-0583818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46D9-C112-4A40-A2EF-E85E155C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8799-FCC9-4D90-A610-F6AA66A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D342-037E-4271-ACE3-9E3DA92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FE4A-EADE-4782-A83C-DD91F274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585-D329-4510-873A-54292DE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DD3-72E2-4FAC-8160-763D1EF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0D09-8E40-4BC3-9F58-E7ABD4A1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331C-CAA2-4742-BDDA-9CEED243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CF45-2296-4263-86BD-1E9B9B58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6502-362E-4472-9791-5116AE15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2CEA-3C4C-4BC1-A042-8783D51D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0529-BB3C-4DF5-8FBB-E16345F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3FD9-8E99-4B5A-974D-9177A0D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5E5E-E7EB-45BB-A18E-9D862D32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82B4-F05E-4D17-9FF5-87699EAA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56E-7C64-432E-A5DA-965826A3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D3D9A-187E-43D7-92A2-7836C4B6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BD49-7613-4E04-938D-3B23D74A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5844-2060-43FD-AD32-7768E04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1317-B6F3-4FC2-96CE-2E75EC2F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FC33-4C14-4E4B-A913-C7516F94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623C-54E4-4A65-A7D8-21F89B53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B13C-FD49-456C-A1C5-58D2FE66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6CF1-DED9-4E90-B44F-45495DB4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6FE8-0CC2-4C22-9CDD-98E43B02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30629-86FB-4015-A7E2-51D5FD49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31B-E52E-4491-97ED-9F32A0E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2D30-08F1-4C8D-B4C8-0A5CDCD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B86D-CFD9-441B-BD23-EC9D7492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7ED88-F5B1-4510-B4BF-AD5F591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33C4-BF18-4018-93AC-8AA0B1D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B8FE-B2C9-49E9-8C9A-003B809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0620-9C39-4774-BF75-8E66400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ECE5-E54A-4AEC-BE72-19769474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D098-FCEA-4BF4-8A46-1E0EA4DC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E71F-1F2D-41DF-9AD4-87573144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A10F-7378-4BA4-A6BE-5199C785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5A0-184F-44BA-9827-1D2ED0C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AB82-BA71-4300-B3E9-830F0490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0464-02DF-4047-85EE-A8A417AD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1C88-0753-44E1-934E-19E50EF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5C4F-61DB-4049-8B11-93C9D935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741B-B03F-4533-A8A2-BECFBEB5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FAC9-ED0E-4178-994E-94D3BE4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B798-79CB-4F9E-9EE8-8D53423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CE693-CBBB-4D94-B61A-09DBB85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ECDA4-65C6-4BBE-83BD-1530D82C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9620A-75E4-452D-A602-50A94FAA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7EC-A7F9-4187-A619-1900B965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5B47D-53E3-4E08-AD7C-37225E97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20938-B275-48DE-A141-590661AC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571C-6D20-4940-9AC0-B653204D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20256-B14D-49AE-96B9-8101283D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D6D6-1FEA-4646-AF5A-92D42DC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759B-E0FC-41CF-B704-71408E2D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634C1-EC7C-4B88-A250-842317A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CA48E-4116-4CB6-8DF0-E19FF719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6558-2AFA-4C37-BBCC-0B4A100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89B64-EAAA-4414-A63C-30DB78A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A6F-04C1-46E6-BBA7-01422B7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83D1-AFDB-421F-92FF-D0BC7C1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F6F5-3659-43F4-86BD-BE96E6AA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2D90-F35C-4917-A709-9D76A8B8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7C530-8F69-44C7-893D-CE5B0379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793E-4621-4CFD-8A90-849772D3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BB2F-29BE-414A-AB6C-43D5B13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4EC4D-C5D9-47F0-BDB2-F2CFFD72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809A-61DE-4C58-82E4-826E541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C71F-F9EB-40F4-9B86-DB04AEE7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B9B3-3F8A-40B8-857E-BB72326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378-9F60-4A9C-A503-E89EE9B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9C83-6D23-4933-ADE4-2951859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EB682-C43F-42C6-AE1E-7A5B7B3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6547C-609B-490C-81E4-E74FB64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C6D9D-D4EA-404E-84D9-82EACB80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A1E4-1BFB-43F6-A66F-149E176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26D4C-1B2B-4346-9B2B-78FB9727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7B20A-105D-4810-A9E3-1369A7A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59DF-7D48-4EB6-A7F7-4ABB41E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C8779-0ED3-40E4-8149-05850582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0943D-DDA7-4785-A976-CED000B4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35E-C789-4EA9-B821-6BD67B5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688B-ECF6-4E13-8813-9975EEFB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ADE5-04A9-4EA4-9EFF-4824D77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03BF4-C12D-4527-9163-FB41A63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01C8-78C1-45AB-A1D9-653BC86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37026-E4D0-4B2A-B2BB-CEAD95A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3C0B0-DB89-4E06-BDD6-EB16817D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717F3-F74B-4A23-AAA7-7A40E3C1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C5976-254B-405D-A3C2-F8877050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3FEF7-E6DC-48A2-8504-DB8D6BF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CA013-5CC6-44B7-8C74-D6FB4EB1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EB36E-9EF0-462F-BE32-2A9FA20A899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FE4AF-BAA1-4263-BADF-C559DD0CA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87896-FB05-45F7-8E4F-8417CBE7D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6E9E5-FE88-48DC-BBDE-D42B7EF531F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A9FB2-36DE-4C83-A4D2-3E2C0EE14D1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CB6C4-A9A8-4D84-A39C-6ED0C1B79D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84349-BD7D-47EE-8793-39FCAFD22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BCCF7-228F-46EF-BCA3-151496CB3E8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3922F-5FE0-4248-85A6-DE97B5D0DD9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64794-D215-4342-AC16-C496A5A79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2A414-0B53-455F-BBDE-22D6B0F6A22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87710-AAC2-4C18-9F9D-AD8BF6C74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E81CB-4FA4-417E-8C96-6B8A3255320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E939A-2A7B-42C2-B5AF-E86CD6EF7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BF0D1-D722-45B9-A4E1-53709D9FB0A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F3827-DD94-407B-8787-D160DD47A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44407-140A-4F56-8918-57D2CD0891F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764AE-3EF5-4312-B188-B344A50F9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95681-9C1D-4E1D-AA2F-DA30EB06F30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46033-37C7-4705-83BA-11C4120F1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DF64E-551B-4985-B3F9-0D36B34A692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4ED6C-59C0-4A77-BBB0-98B25B6FAF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B046E-02BF-42B8-9A95-F88B08EE0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F6E8C-32E4-4A29-95D0-1A2739C44C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MERICA ON THE WORLD STAGE: 1899-19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8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apanese Laborers in Californi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e in Japanese migration to America’s Pacific Coa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ed as farm laborers, railroad workers &amp; serva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d dangerous work like Chinese before them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acis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chool board in San Francisco ordered segregation of Chinese, Japanese &amp; Koreans to make more space for whi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ntlemen’s Agree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reat White Flee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in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Open Door Polic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US announces that all countries will respect certain Chinese rights and the ideal of fair compet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ll countries have equal access to any ports open to trade in China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xer Rebell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ultinational rescue force quells rebellio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6432480" y="3635280"/>
            <a:ext cx="1998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ection of 1900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publican: William McKinley, VP: Teddy Roosevel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ocrat: William Jennings Bry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ggest issue: imperialis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cKinley is victorio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sassinated in 1901 by a deranged anarchist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oosevelt becomes president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6647040" y="2771640"/>
            <a:ext cx="21589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eddy Roosevel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Tennis Cabinet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eak Softly and Carry a Big Stick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gotiate peacefully while threatening “big stick” or militar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ormous popular appe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rect-actioni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Constitution rides behi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the big stick rides befo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which is the rule of preced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the reign of Theodore)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6227640" y="3065400"/>
            <a:ext cx="2318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074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27080" y="444600"/>
            <a:ext cx="888984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anama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y-Pauncefote Trea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y Bunau-Varilla Trea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d to construction of Panama Can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so led to downturn in U.S. relations w/ Latin America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3218040" y="3668760"/>
            <a:ext cx="27432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’s Perversion of the Monroe Doctri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 was worried that weakness of nations like Dominican Republic &amp; Venezuela would lead to European interven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Roosevelt Corollary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“preventive intervention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US would intervene in conflicts between Europe &amp;  Latin American countries to prevent European intervention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3824280" y="4057560"/>
            <a:ext cx="2546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oosevelt on the World Sta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break of war between Russia &amp; Japan, 190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ussia wants a stake in China’s por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osevelt agreed to help sponsor peace negoti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oosevelt receives Nobel Peace Prize for this agreement, and mediating in North Afri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oth Japan &amp; Russia felt robb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7:09:49Z</dcterms:created>
  <dc:creator>Emily Johnson</dc:creator>
  <dc:description/>
  <dc:language>en-US</dc:language>
  <cp:lastModifiedBy>emily.johnson</cp:lastModifiedBy>
  <dcterms:modified xsi:type="dcterms:W3CDTF">2013-02-04T15:13:44Z</dcterms:modified>
  <cp:revision>3</cp:revision>
  <dc:subject/>
  <dc:title>Chapter 28</dc:title>
</cp:coreProperties>
</file>